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91A4-26AD-4CC9-9DE2-ABA976373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42B9-8040-422F-8F82-851B06E5E8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F470-A6B5-4C2F-AD38-E8320C2EB5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2763-5FBF-4523-98AB-23EA55FFB3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E79E-5EB6-464B-A125-9334D38D3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D1E-598A-4E71-BB3F-19C25A5B4D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6A2-344A-481F-ABC3-DFD6619D63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437-BDA3-4269-9000-324263DE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4FA-5BD3-45D7-B6BA-5CE0138E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C91-C490-4E6E-AE2F-11323526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587-6C62-48A4-9418-6CB1003F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13272-410C-4DFD-AD3E-C9ED7C91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547F5-8EC4-4978-9E65-2A560AA5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8E670-50A8-4F01-8F6A-1AB32AFA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4F1C3-E068-4D7D-82A3-67229B95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8CF09-6033-4B44-8AF8-2D78FBCB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6BE4E-85A6-4AE8-BFF9-C3C851E0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CFC0A-D483-4BEA-9211-A236A26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C1B-796A-4F80-AFEF-990BA6C0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F014D-EB1A-404B-A5AB-8D1E1EC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3EA68-C56A-492B-906C-BC8E9B51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63DB1-A17A-43F5-8870-930D5FEE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1A7F3-B104-49A0-ABF9-05E92E65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95592-F22F-4C54-847C-50960E79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C72-0302-4E7D-B77B-09F82C9A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43A-F4A7-4B3C-9B25-8C826819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E2F-F5EC-4925-A8E0-14324680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EAD-D0A3-4DBE-A578-99339F46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ED9-FAAD-40BA-855D-1C6E73AA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BF7-3DFE-4C97-9C22-488744E8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C0C-53B2-4D2A-8D53-6A975B13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3E5D-872F-4B8A-B8E2-7E4ED6B165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0626-7E05-4DA4-AB9B-E422B16033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El Pretérito y El Imperfecto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ulo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ra. Fynb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n Spanish two past tenses are used. How do we know when to use the preterite tense and when to use the imperfect tense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are the reasons to use the imperfect ten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On going action (something that was happe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o estudiab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uando mi hermano entró mi cuar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Repeated, habitu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a chic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emp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ac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 t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What one used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y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iño, jugaba con jugue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imperfecto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hombre grues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n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7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ime on the c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r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 tres de la tar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ac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í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houghts and E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tab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uy tris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Physical D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hic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belto y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n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lo teñido de verd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1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Pretéri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Quick Actions that occur. (Main actions or events in a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i al mercado y compré comida para la c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Actions that occurred at a specific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udié por cinco hora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y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Actions repeated a specific number of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 llamé por teléfono tres vece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oc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For both the imperfect and preterite tenses, there are trigger words. Here are some common trigger words for the imperfect and preterite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Pretér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che, ayer, el otro día, anteayer, el año pasado, el mes pasado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imperfec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mpre, a menudo, por lo general, usualmente, algunas veces, a veces, todos los días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¡Práctica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yo (era/fui) niña, saltaba la cuer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che mis amigos (salían, salieron) por las cal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padre siempre (miraba, miró) la televis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 (era/ fui) a la tienda tres veces 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hica (tenía/ tuvo) trece a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sotros (hacíamos/ hicimos) la tarea el otro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maestro nos (gritaba/ gritó) a ve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familia (veía/ vio) películas todos los jue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ño pasado yo (estudiaba/ estudié) mu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os (estaban/ estuvieron) enojados con los resulta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3:57:53Z</dcterms:created>
  <dc:creator>HEHS</dc:creator>
  <dc:description/>
  <dc:language>en-US</dc:language>
  <cp:lastModifiedBy> </cp:lastModifiedBy>
  <dcterms:modified xsi:type="dcterms:W3CDTF">2011-12-19T19:07:38Z</dcterms:modified>
  <cp:revision>5</cp:revision>
  <dc:subject/>
  <dc:title>El Pretérito y El Imperfec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